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8C3-915F-4A44-B3F7-726A32CE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AEA-15DC-45B8-A625-CF2EC515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6FB-9373-4AE1-817F-71B807BF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A2E-BE7E-42F1-8526-4155B0E7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9CF-7568-4DB7-94BF-FE7B0CED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F5B-46F0-4245-910C-BC0B3730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C64-01D0-472B-86EC-BBBA447D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A53-41C7-4269-88F2-24A9D210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E17-691B-4B8E-B29C-73BE7D76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DB8-2438-43F5-9D26-55DFD448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066-BCEB-47B8-8B05-AB03B44D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688-7EBD-4A32-9065-E6B99754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2DB3-CF5C-462F-9CF5-5BAE35DDD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NEU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23760" y="5465880"/>
            <a:ext cx="66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arcía Pastor, P Sobrino Garc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Ictus, Servicio de Neu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General Universitario Gregorio Marañón,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ipertensión arteri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tamiento preventiv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vención primari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e recomiendan cifras de tensión inferiores a 140/90. En diabéticos, inferiores a 130/8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en estilo de vida: abandono del tabaco y consumo moderado de alcohol, reducir peso, hacer ejercicio y reducir la ingesta de sal en las com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menudo: medicamentos antihipertensiv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vención secundari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e recomiendan cifras de tensión inferiores a 130/8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camentos antihipertensivos tanto en hipertensos como en normoten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iabe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predisposición a desarrollar arteriosclerosis, hipertensión arterial, obesidad y dislip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iesgo de ictus: 2 a 6 veces mayor en diabét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adecuado control de la diabetes reduce la tasa de complicaciones vas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iabe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tamiento preventivo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ención primari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mbios en estilo de vida: reducir peso, hacer ejercicio y realizar dieta antidiabé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demás de un adecuado control de la diabetes, controlar otros FRV (tensión arterial, uso de estatinas, etc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ención secundari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 de la diabetes con medicamentos antidiabéticos orales y/o insulina, manteniendo niveles de hemoglobina glicosilada por debajo del 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percolesterolem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lesterol es un tipo de grasa que se encuentra en la sang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tipos de colester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DL (“colesterol malo”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DL (“colesterol bueno”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niveles elevados de colesterol  LDL aumentan el riesgo de ictus isqué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lesterol LDL se puede acumular en la pared de las arterias y producir ictus o ataques al coraz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tina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ármacos que disminuyen los niveles de colesterol LDL en sangre. Además tienen efectos sobre la pared de las arterias, evitando la aparición de placas de aterosclero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ipercolesterolem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tamiento preventiv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ención primari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ieta pobre en grasas saturadas y ejercicio físico mode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demás: estatinas en pacientes con antecedentes de infartos/anginas al corazón, diabetes, o riesgo alto de enfermedad vascular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ención secundari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statinas en la práctica totalidad de pacientes que han sufrido un ictus isque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abaqu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fumadores tienen el doble de riesgo de sufrir un ictus que las personas que no fu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iesgo especialmente elevado para ictus aterotrombótico e ictus en personas jóv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bandono del tabaco reduce el riesgo de ictus, y de otras enfermedades vascula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tabaquismo pasivo también aumenta el riesgo de ic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aqu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tamiento preventiv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recomienda el abandono del 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tar la exposición pasiva al taba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 recomienda el uso de productos de tabaco sin hu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uso de consejos, sustitutos de nicotina, y fármacos para la deshabituación pueden ser adecu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es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besidad es una verdadera epidemia en los países desarroll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socia a mayor riesgo de ictus debido a que se asocia a hipertensión arterial, diabetes y cifras más elevadas de coleste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recomienda mantener índices de masa corporal* por debajo de 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339200" y="5740560"/>
            <a:ext cx="6697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 El índice de masa corporal (IMC) se calcula dividiendo el p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en kilogramos) por el cuadrado de la talla (en metro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a sed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ida sedentaria está muy extendida en nuestra pob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asocia al ictus y se relaciona con otros FRV como la hipertensión arterial, obesidad, diabetes, hipercolesterolemia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dad fís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menta los niveles de colesterol HDL (bueno) y reduce los LDL (colesterol malo), reduce la presión arterial, mejora la diabetes, y ayuda a reducir p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individuos físicamente activos tienen menos riesgo de ictus y de infarto al coraz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recomienda 30 minutos de ejercicio moderadamente intenso la mayoría de los días de la sema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onsumo excesivo de alcohol (&gt; 60g al día) es un factor de riesgo para todos los tipos de ic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o bajo (&lt;12g al día) o moderado (12 a 24 g/día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or riesgo de ictus que individuos abstem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o moderado de vino tinto: “protector vascul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 recomienda beber más del equivalente a dos vasos pequeños de vino al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CIÓN DE LA ENFERMEDAD CEREBR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iconceptivos orales/ terapia hormonal sustitutiva: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uso de hormonas (estrógenos y/o pregestágenos) puede aumentar el riesgo de ic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rapia hormonal sustituti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se recomienda su uso para la prevención primaria o secundaria del ictus en mujeres menopáu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ticonceptivos or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jo riesgo de ictus en mujeres sin factores de riesgo va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se recomienda en mujeres con alteraciones congénitas de la coa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esaconseja en mujeres fumadoras, migrañosas, antecedentes de trombos, diabéticas o hipertens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fermedades cardi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unda causa de ictus isquémico: ictus de causa cardioemból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cardiacas embolígenas: favorece la formación de trombos en el interior del corazón, que posteriormente se desprenden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mbolia cereb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nosis de la válvula mitral (reumática): riesgo muy elevado de i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arto de miocardio: riesgo elevado de ictus en el primer mes tras el infa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ocardiopatía dilatada: el corazón dilatado no bombea adecuadamente la sangre y permite la formación de trom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brilación auric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a causa más frecuente de ictus cardioem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fermedades cardi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camentos empleados en la prevención del ictus cardioemból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icoagulantes orale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primera elección (son los más eficac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99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Wingdings"/>
                <a:ea typeface="Wingdings"/>
              </a:rPr>
              <a:t>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ficaces para evitar la formación de tromb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iesgo de sang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enocumarol (sintrom): uso muy extendido, requiere controles de coagulación y ajustes de do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uevos anticoagulantes: dabigatrán, rivaroxaban, apixaban: no requieren ajuste de dosis, más cómodos y segu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iagregantes plaquetar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pirina, clopidogrel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nos eficaces en la prevención de la formación de tromb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emplean cuando los anticoagulantes orales están contraindicados (por elevado riesgo de sangrado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¿Qué es la Fibrilación Auricular (FA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8272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tmia cardiaca más frecuente: 6% de personas mayores de 65 años, 12% de mayores de 85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o de riesgo de ictus de 4 a 5 ve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o de cada 6 ictus isquémico es debido a 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¿Qué es la Fibrilación Auricular (FA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tamiento preventivo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ención primari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pacientes con FA y alto riesgo vascular  (presencia de múltiples FRV) se recomienda tratamiento anticoagulante o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pacientes con FA y bajo riesgo vascular, se puede emplear aspirina o ningún tra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ención secundari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recomienda anticoagulación oral en pacientes con ictus isquémico y 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so de contraindicación para el uso de anticoagulantes orales se puede utilizar la combinación de aspirina y clopidog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enosis carotí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dos FRV (hipertensión, hipercolesterolemia, tabaco)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año en la  pared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ca de aterosclero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cúmulo de lipidos y células inflamatorias en la pared de la ar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olución de la plac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ecimiento que produce un estrechamiento de la luz de la arter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nosis e incluso oclusión arter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mperse y trombosarse (“placa complicada”)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mbolismo arterio-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calización de las placas arterioscleróticas: diversas arterias del cuello y la cabeza q aportan sangre al cereb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enosis carotí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localizacions de placas"/>
          <p:cNvPicPr/>
          <p:nvPr/>
        </p:nvPicPr>
        <p:blipFill>
          <a:blip r:embed="rId1"/>
          <a:stretch/>
        </p:blipFill>
        <p:spPr>
          <a:xfrm>
            <a:off x="2749680" y="1752480"/>
            <a:ext cx="35748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enosis carotí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nosis de arteria carótida interna: causa importante de ictus isqué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to mayor es el grado de estrechamiento, mayor es el riesgo de ictus isqu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ados de estenosis carotíd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este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nosis lev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xiste un estrechamiento menor del 50% de la luz total de la ar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nosis moder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trechamiento entre el 50 y 69% de la luz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nosis sev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ntre el 70 y 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clusión carotíde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 luz de la arteria está completamente “tapad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enosis carotí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tamientos empleados en la prevención del ictus isquémico en pacientes con estenosis carotíde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tamiento méd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ntrol riguroso de los FRV implicados en la formación y crecimiento de la placa aterosclerótic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ármacos antihipertensivos, estatinas, antiagregantes plaquetario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tamiento revascularizad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os técnicas comparables en cuanto a eficacia y segur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atamiento quirúrgic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endarterectomía carotídea: acceso a través del cuello, extracción de la placa y reconstrucción de la pared ar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atamiento endovascula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angioplastia percutánea: acceso a la carótida a través de un catéter que se introduce por la ingle (en la arteria femoral), dilatación con balón sobre la placa y colocación de un s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mayor grado de estenosis, mayor beneficio del tratamiento revasculariz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enosis carotí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tamiento preventivo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vención primari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stenosis carotídea que NO ha producido un ictu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la estenosis carotídea leve o moderada, se recomienda tratamiento méd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la estenosis severa se podría plantear un tratamiento revascularizador en pacientes seleccionados, siempre que el riesgo de complicaciones del procedimiento revascularizador sea menor del 3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vención secundari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stenosis carotídea que ha producido un ictus (no invalidante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estenosis leves (&lt;50%) deben ser tratadas con tratamiento méd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las estenosis moderadas podría plantearse tratamiento revascularizador en pacientes seleccion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estenosis severas (&gt;70%) deben ser tratadas con tratamiento revascularizador en centros con una tasa de complicaciones inferior al 6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el ictus ha dejado secuelas invalidantes, no se considera beneficioso el tratamiento revasculariz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tratamiento revascularizador resulta más beneficioso cuanto más pronto tras el ictus se realice. Más de 6 meses= pérdida del efecto beneficio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CIÓN DE LA ENFERMEDAD CEREBR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vención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conjunto de medidas (tratamientos, consejos higieno-dietéticos, procedimientos, etc.) cuyo objetivo es evitar la aparición o re-aparición de una enferme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CIÓN DE LA ENFERMEDAD CEREBR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ención prima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revención del primer ic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: evitar el ictus en las personas q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n sufrido ningu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ción pri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s de promoción de salud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CIÓN DE LA ENFERMEDAD CEREBR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ención secunda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revención tras el ic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: evitar que se repita el ictus en los pacientes que ya lo han suf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ción espe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ción pri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CIÓN DE LA ENFERMEDAD CEREBR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ción sobre lo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es de riesgo vascular (FRV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en el estilo de vida, fármaco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V no modific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V modific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es de riesgo vascular no modific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00"/>
                </a:solidFill>
                <a:latin typeface="Arial"/>
              </a:rPr>
              <a:t>No se puede actuar sobre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esgo de ictus aumenta con la edad, sobre todo a partir de los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or en sexo masculino (hasta edades avanza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ética 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ia famili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ic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z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egros americanos: mayor riesgo de ic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Arial"/>
              </a:rPr>
              <a:t>Sí podemos actuar sobre e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pertensió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percolestero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a sed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conceptivos o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ermedades cardi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es de riesgo vascular modific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pertensión arteri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hipertensión arterial daña las arterias del cereb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de riesgo modific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ás import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sufrir un ictus, tanto isquémico como hemorrág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reducción del riesgo de ictus es proporcional a la magnitud de la reducción de las cifras de tensión arte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0:06:12Z</dcterms:created>
  <dc:creator>ugph</dc:creator>
  <dc:description/>
  <dc:language>en-US</dc:language>
  <cp:lastModifiedBy>ugph</cp:lastModifiedBy>
  <dcterms:modified xsi:type="dcterms:W3CDTF">2012-04-16T17:03:01Z</dcterms:modified>
  <cp:revision>32</cp:revision>
  <dc:subject/>
  <dc:title>EDUCANEURO</dc:title>
</cp:coreProperties>
</file>